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Ricochet.wav" ContentType="audio/x-wav"/>
  <Override PartName="/ppt/media/Applause.wav" ContentType="audio/x-wav"/>
  <Override PartName="/ppt/media/image12.wmf" ContentType="image/x-wmf"/>
  <Override PartName="/ppt/media/image1.wmf" ContentType="image/x-wmf"/>
  <Override PartName="/ppt/media/image4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13.wmf" ContentType="image/x-wmf"/>
  <Override PartName="/ppt/media/image5.png" ContentType="image/png"/>
  <Override PartName="/ppt/media/Explode.wav" ContentType="audio/x-wav"/>
  <Override PartName="/ppt/media/GunShot.wav" ContentType="audio/x-wav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1F0-7292-46F1-9987-AA2AEF6E5B7E}" type="slidenum">
              <a:rPr b="0" lang="cy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851-12D2-47E8-9371-95BBCD037092}" type="slidenum">
              <a:rPr b="0" lang="cy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EEB-E78A-4B6A-AA33-8C275753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763-2438-4EBE-AFF0-D9FE1CF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E59-137A-4562-87CF-329D3B87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6E9-D086-463C-8A46-165CBDF7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30E-901C-44B9-82F4-2BC29A59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D95-0795-41DF-B5EC-441F162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9B9-76FE-492A-8A56-B34A358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4A40-4AE4-474F-A914-0A0231EA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DF32-3F82-438C-9399-A629EFA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4FB-3B83-4093-8E03-07120BA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64AA-CFD4-49E1-8A6C-90D2442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1DC-7165-4B86-96D7-23113D6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266-D216-407B-921C-839AD26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4B4-1912-4943-931C-FE00614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2F8-928F-4610-ABFB-050FA647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B76-6275-4828-8E47-887A4364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45D-1CAE-4027-B676-0496C491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439-3AE5-4049-B141-429CBE4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62A-F3B0-41F6-934C-ADE99F5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47D-71B4-495B-868F-56E3EA8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534-FCC7-4A11-9B6F-CEC9DB7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B69-68CC-427F-BFCC-07A55A5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34E-2FB6-4800-8A51-857EC32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CD8-FE93-45D6-BAEA-343C789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283-4585-4E03-895D-21F7E7D7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CD9B-E7DB-4384-9913-91DFEC700A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audio" Target="../media/Ricochet.wav"/><Relationship Id="rId8" Type="http://schemas.openxmlformats.org/officeDocument/2006/relationships/audio" Target="../media/GunShot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ir prif ddiben busnes mewn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ffffcc"/>
                </a:solidFill>
                <a:latin typeface="Times New Roman"/>
              </a:rPr>
              <a:t>Datganiad cenhadaeth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5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144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m myd busnes fel arfer y prif nodau y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Gwneud yr elw mwyaf posib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Tyf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gan lawer o fusnesau rai neu bob un o’r nodau canlynol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neud el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nwyddau a gwasanaethau i’r gymuned le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oroe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ehangu (gweler y cyflwyniad ppt ar dyf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rthu cymaint ag sy’n bosib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cynny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lla ansawdd y gwasanae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cystadleuol ia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elusenn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darparu gwasanaeth gwirfodd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bod yn ecogyfeillg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od 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bod yn ddewis cyntaf o blith cwmnïau hedfan mewn marchnadoedd allwedd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3203640" y="4240080"/>
            <a:ext cx="2881080" cy="192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Amca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Mae modd mesur amcanion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Mae angen i fusnes nodi targedau ymarferol penodol mae angen iddo eu cyrraedd er mwy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cyflawni ei nodau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14400" y="4800600"/>
            <a:ext cx="4419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 </a:t>
            </a:r>
            <a:r>
              <a:rPr b="0" lang="cy-GB" sz="3800" spc="-1" strike="noStrike">
                <a:solidFill>
                  <a:srgbClr val="ffffcc"/>
                </a:solidFill>
                <a:latin typeface="Times New Roman"/>
              </a:rPr>
              <a:t>yw’r enw ar y rhai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iff amcanion eu meintioli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Fel y gellir mesur llwyddiant yn hawdd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E.e. gallai British Airways fod ag amcan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i gynyddu nifer y tocynnau awyr sy’n cael eu gwerthu i deithwyr busnes 5% y flwyddyn yn Ewrop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–</a:t>
            </a:r>
            <a:br>
              <a:rPr sz="4400"/>
            </a:b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y gwahaniaeth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hirdym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odd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heb fod 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bethau tymor by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fwy gwrthrych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yn hawdd eu mes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CAMP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6000" spc="-1" strike="noStrike">
                <a:solidFill>
                  <a:srgbClr val="ffcc66"/>
                </a:solidFill>
                <a:latin typeface="Times New Roman"/>
              </a:rPr>
              <a:t>AMCANION CAMPU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yraedd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A               amse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mesuradw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penod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uchelgeisi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synhwyr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2962440" y="17748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2"/>
          <a:stretch/>
        </p:blipFill>
        <p:spPr>
          <a:xfrm>
            <a:off x="2962440" y="2468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3"/>
          <a:stretch/>
        </p:blipFill>
        <p:spPr>
          <a:xfrm>
            <a:off x="2959200" y="310680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7" descr=""/>
          <p:cNvPicPr/>
          <p:nvPr/>
        </p:nvPicPr>
        <p:blipFill>
          <a:blip r:embed="rId4"/>
          <a:stretch/>
        </p:blipFill>
        <p:spPr>
          <a:xfrm>
            <a:off x="2959200" y="374652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8" descr=""/>
          <p:cNvPicPr/>
          <p:nvPr/>
        </p:nvPicPr>
        <p:blipFill>
          <a:blip r:embed="rId5"/>
          <a:stretch/>
        </p:blipFill>
        <p:spPr>
          <a:xfrm>
            <a:off x="2959200" y="434016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6"/>
          <a:stretch/>
        </p:blipFill>
        <p:spPr>
          <a:xfrm>
            <a:off x="2959200" y="501336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trwy ddarllen datganiad cenhadaeth gallwch ddweu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fel arfer beth mae bus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yn ei wneud mewn gwirionedd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3733920" y="5084640"/>
            <a:ext cx="175896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Gwerthuso perfformia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Object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53000" cy="370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049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derfynu ar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0574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Pennu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762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eithio tuag at y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2271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Gwirio’r perfformiad yn rheolai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56360" y="30481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000" spc="-1" strike="noStrike">
                <a:solidFill>
                  <a:srgbClr val="ffffcc"/>
                </a:solidFill>
                <a:latin typeface="Times New Roman"/>
              </a:rPr>
              <a:t>Os yw’n anfoddhao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64832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Cymryd camau un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9718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Addasu / adolygu’r amcan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522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cc"/>
                </a:solidFill>
                <a:latin typeface="Times New Roman"/>
              </a:rPr>
              <a:t>Newid y nod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2120" y="121932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3581280" y="91440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 rot="10878000">
            <a:off x="7238880" y="3504960"/>
            <a:ext cx="1146240" cy="1143000"/>
          </a:xfrm>
          <a:custGeom>
            <a:avLst/>
            <a:gdLst>
              <a:gd name="textAreaLeft" fmla="*/ 659520 w 1146240"/>
              <a:gd name="textAreaRight" fmla="*/ 967320 w 11462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 rot="10878000">
            <a:off x="5028840" y="4876200"/>
            <a:ext cx="1219320" cy="114300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5493000">
            <a:off x="6857640" y="1066680"/>
            <a:ext cx="1218960" cy="1066680"/>
          </a:xfrm>
          <a:custGeom>
            <a:avLst/>
            <a:gdLst>
              <a:gd name="textAreaLeft" fmla="*/ 701280 w 1218960"/>
              <a:gd name="textAreaRight" fmla="*/ 1028880 w 1218960"/>
              <a:gd name="textAreaTop" fmla="*/ 143640 h 1066680"/>
              <a:gd name="textAreaBottom" fmla="*/ 456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905120" y="525780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25146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Sut i wirio nodau ac amcan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Nodau ac Amcanion Busnes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Object 4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492360" cy="3962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 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Microsof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Mae Bill Gates wedi dweud mai cenhadaeth Microsoft yw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cc"/>
                </a:solidFill>
                <a:latin typeface="Times New Roman"/>
              </a:rPr>
              <a:t>cymryd y rhyngrwyd, ei chyfuno â meddalwedd gwych a throi hwnnw i mewn i’r offeryn mwyaf pwerus erio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atganiadau cenhadae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Dylech allu dweud bod Microsoft yn ymwneud â’r rhyngrwyd, cyfrifiaduron a datblygu meddalwedd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4400" spc="-1" strike="noStrike">
                <a:solidFill>
                  <a:srgbClr val="ffffcc"/>
                </a:solidFill>
                <a:latin typeface="Times New Roman"/>
              </a:rPr>
              <a:t>yw bod yr arweinydd diamheuol ym maes teithio’r by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496040" cy="223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..o hyn dylech wybod bod </a:t>
            </a: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British Airways yn gweithred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cc"/>
                </a:solidFill>
                <a:latin typeface="Times New Roman"/>
              </a:rPr>
              <a:t>yn y farchnad deithio</a:t>
            </a: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Datganiad cenhadaeth</a:t>
            </a:r>
            <a:br>
              <a:rPr sz="4400"/>
            </a:b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British Air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ond </a:t>
            </a:r>
            <a:r>
              <a:rPr b="1" lang="cy-GB" sz="2800" spc="-1" strike="noStrike">
                <a:solidFill>
                  <a:srgbClr val="ffffcc"/>
                </a:solidFill>
                <a:latin typeface="Times New Roman"/>
              </a:rPr>
              <a:t>nid yw’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y-GB" sz="3200" spc="-1" strike="noStrike">
                <a:solidFill>
                  <a:srgbClr val="ffffcc"/>
                </a:solidFill>
                <a:latin typeface="Times New Roman"/>
              </a:rPr>
              <a:t>glir i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pa fath o deithi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(ar wahân i’r ffaith bod y gair ‘Airways’ yn enw’r cwmni!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2"/>
          <a:stretch/>
        </p:blipFill>
        <p:spPr>
          <a:xfrm>
            <a:off x="4037040" y="1828800"/>
            <a:ext cx="192888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8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89584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un peth yw datgan cenhadaeth neu ddib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 u="sng">
                <a:solidFill>
                  <a:srgbClr val="ffffcc"/>
                </a:solidFill>
                <a:uFillTx/>
                <a:latin typeface="Times New Roman"/>
              </a:rPr>
              <a:t>ond</a:t>
            </a: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 peth ar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800" spc="-1" strike="noStrike">
                <a:solidFill>
                  <a:srgbClr val="ffffcc"/>
                </a:solidFill>
                <a:latin typeface="Times New Roman"/>
              </a:rPr>
              <a:t>yw ei gyflawni</a:t>
            </a:r>
            <a:r>
              <a:rPr b="0" lang="en-GB" sz="4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y-GB" sz="4400" spc="-1" strike="noStrike">
                <a:solidFill>
                  <a:srgbClr val="ffcc66"/>
                </a:solidFill>
                <a:latin typeface="Times New Roman"/>
              </a:rPr>
              <a:t>Er mwyn cyflawni ei ddiben, rhaid bod gan fusnes</a:t>
            </a: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1280" y="3047760"/>
            <a:ext cx="72374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Noda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y nodau mae’r busnes eisiau eu cyflawn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cc"/>
                </a:solidFill>
                <a:latin typeface="Times New Roman"/>
              </a:rPr>
              <a:t>Amcan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camau ymarferol i gyflawni’r nod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cc"/>
                </a:solidFill>
                <a:latin typeface="Times New Roman"/>
              </a:rPr>
              <a:t>- fel arfer wedi’u meintioli (mae modd eu mesu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cp:lastPrinted>2015-05-01T13:06:06Z</cp:lastPrinted>
  <dcterms:modified xsi:type="dcterms:W3CDTF">2015-08-27T12:26:04Z</dcterms:modified>
  <cp:revision>16</cp:revision>
  <dc:subject/>
  <dc:title>The Aims and Objectives of Businesses</dc:title>
</cp:coreProperties>
</file>